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4.gif" ContentType="image/gif"/>
  <Override PartName="/ppt/media/image1.png" ContentType="image/png"/>
  <Override PartName="/ppt/media/image9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2.png" ContentType="image/png"/>
  <Override PartName="/ppt/media/image10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51FA-680B-49F5-BA9D-D820291BA7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 и законы дина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6030-FB49-4052-B724-DFA965A6EC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ерциальные системы отсчет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18AE-303E-4461-B793-6916C743E8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9C0A-5692-425C-97F3-DD934D6818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5A6E-9DA6-4D9D-B341-A5A83883F2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шайба, брошенная хоккеистом, двигаться равномерно по льд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90DF-8871-4244-8229-2E78CEE8BA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ли вам интересен материа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звало затруд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CD04-577E-4AD1-A506-F8AB9F6484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ы сОтносительность 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е объяснить падение ябл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1FC5-45A3-4EE7-91A7-B592E7A834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-4 веке до н.э. ученые пытались понять, что заставляет двигаться тела, при каких условиях тела находятся в покое. Древнегреческий ученый Аристотель утверждал : «…» Прав ли он?? Давайте посмотрим описание опыта с те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ристотель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384 - 322 г. до н. э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 ли он??ежкой в вашем учебнике. (обсуждаются результаты опыта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О ГАЛИЛ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64-164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ь заблуждался!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на тело не действуют другие тела, то оно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ся в по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ижется прямолинейно и равномер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Аристотелю, шарик, упавший 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Галилей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истотел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шарик, упавш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38D0-CC16-4BD9-818C-2A648E86FC3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а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ьют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43-17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Calibri"/>
              </a:rPr>
              <a:t>«Тело сохраняет свою скорость, если на него не действуют другие тел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нерции (первый закон Ньютона, первый закон механики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4A9F-8E25-4F7D-8435-97764AAEB05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072-0EB1-4166-A946-7C74DFF2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D01-438C-4529-9090-44CDA311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B5C2-AD2E-427F-AA14-F422F132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1D6-7CF9-4DF8-B3C5-55DDE1BC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9DD7-4973-416B-96AF-6E5EB3DC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84BB-2A3E-485C-B148-BE6A47CA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F039-569B-4835-B77B-BA48C4F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4A57-CA08-41DE-B292-A5D364F7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126C-AE3C-4831-BCF7-3A4F23AF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97DE-1E50-4678-A9D4-063EF075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E816-6E42-47C6-8143-293FFC76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F09-1138-48C5-8C01-A27C309E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7D76-8218-4003-A20C-C64F3324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13FC-FDEB-4B81-A719-DEC1A7A6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0F36-5786-483F-BAFB-27C09B29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C4B0-04E1-43B2-8579-8C6AB7B4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EEC8-06F2-4AF1-8F4A-3BC47CC9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6FB9C-62DD-4270-9F51-C475AABB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05CD-2CF1-4A69-B701-E72777C9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0317-8F10-4F0C-9F81-05E1EB4A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CCB5-FA24-4B54-B44D-A546AE7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219F-63CC-4650-8B2E-8153CD38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E18-D0FC-4CD0-9743-3D7359FE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6C9E-0D45-44EB-94E6-AC299510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E55B-51D5-4907-AB4F-58545425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1AB5-2D35-44D8-9D22-2124404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7258-7B55-47E4-ABC7-EB7C3C0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DFAA-4677-45E9-8491-0558C563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4C50-93C4-42CD-A6F7-845FC85B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50BE2-7E22-4073-A24E-97A53D15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42AC7-472B-4785-8AFF-34B5ED52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59BC-C126-4E4A-AC43-4AE9C2AE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4F4EC-3255-4555-A9F1-51BA590E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76E-9A3A-4EE1-8B36-441B9D2A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E8E3-5DF2-4E04-A94F-E6614CC8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E76E4-968A-45B0-9538-D6484E49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39CEC-AC0B-42F0-80D5-01BFCA0D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869B-BF4B-4536-A1FA-B5D8EAD8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DC51-2B68-4821-82AB-377ED4B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AB46-91E4-45E0-B720-11E9E4BC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4FDA-B22B-4A07-80B4-A4F58494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2693D-881A-492A-B45B-BAEF307D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3AD1-12B8-4953-AB48-2381594D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D7C1-3EB9-4DC4-A30C-2D5D5272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976-792C-47D7-992F-3A843282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0EB66-FB60-4874-A7CB-7FB6D97A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17803-2BF9-4A75-9B19-CBB5112A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B25CD-906F-4809-A489-0F36165B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C6ED3-BDE3-4C07-8B8F-DE395F39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94D55-39B1-4682-8163-F97FB173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873B9-2831-41C9-B8AB-1D62AB5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BB544-3790-4CED-A486-AF557FC4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F9E07-90FB-4DE2-8D34-023E8D24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38E26-9216-4544-9A32-79E52234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3C324-E2FD-4AC0-B56E-38AD37F7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4AF-712E-4157-A43B-48DE6F05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FC255-2476-46AA-B2E3-2A7DCD1D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C50-BA19-433E-8447-E5CDAF95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B41-8191-408B-B77E-9FFCE92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BFC-8BAD-4E3F-A0EA-5C020342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823F-254E-4724-AE17-1AB0B4EBCFD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A027-4226-40CA-8076-322434AE77A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E9CA-11DA-4783-B55A-C5872443184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24D4-9E2F-4C31-B8A8-BFBD2A26715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4BF5-AD49-4930-9E95-42FAA889D055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51BD-543D-4534-9D76-8155C4DBE6B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9BD3-9DCE-4639-A8C7-091F19494443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8933-1E92-48B4-973D-9F2FFF43728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5694-B616-4144-A1CC-02590C7D385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7E93-685B-4953-95E7-28A9CD70691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сновные понятия и законы динами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9160" y="528624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нерциальные системы отсчета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7" descr="j0301076"/>
          <p:cNvPicPr/>
          <p:nvPr/>
        </p:nvPicPr>
        <p:blipFill>
          <a:blip r:embed="rId1"/>
          <a:stretch/>
        </p:blipFill>
        <p:spPr>
          <a:xfrm>
            <a:off x="327672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Задача 1.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3300120" cy="20937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8352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5435640" y="4483080"/>
            <a:ext cx="2587680" cy="181944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83520" cy="27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 3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ожет ли шайба, брошенная хоккеистом, двигаться равномерно по льду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j0285318"/>
          <p:cNvPicPr/>
          <p:nvPr/>
        </p:nvPicPr>
        <p:blipFill>
          <a:blip r:embed="rId1"/>
          <a:stretch/>
        </p:blipFill>
        <p:spPr>
          <a:xfrm>
            <a:off x="1403280" y="3860640"/>
            <a:ext cx="2160720" cy="1927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2521080" cy="1476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Рефлексия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183520" cy="201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ли вам интересен материа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ызвало затруднен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6" descr="j0299125"/>
          <p:cNvPicPr/>
          <p:nvPr/>
        </p:nvPicPr>
        <p:blipFill>
          <a:blip r:embed="rId1"/>
          <a:stretch/>
        </p:blipFill>
        <p:spPr>
          <a:xfrm>
            <a:off x="3747960" y="3789360"/>
            <a:ext cx="149220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176364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1762200" y="479592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78000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1763640" y="573408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176364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305928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AG00327_"/>
          <p:cNvPicPr/>
          <p:nvPr/>
        </p:nvPicPr>
        <p:blipFill>
          <a:blip r:embed="rId1"/>
          <a:stretch/>
        </p:blipFill>
        <p:spPr>
          <a:xfrm>
            <a:off x="2050920" y="393372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носительность движ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0111E-006 L 0.11823 4.80111E-006 E">
                                      <p:cBhvr>
                                        <p:cTn id="1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4.80111E-006 L 0.11823 0.2937 E">
                                      <p:cBhvr>
                                        <p:cTn id="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-152280" y="404280"/>
            <a:ext cx="94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1700280"/>
          <a:ext cx="8351640" cy="4479840"/>
        </p:xfrm>
        <a:graphic>
          <a:graphicData uri="http://schemas.openxmlformats.org/drawingml/2006/table">
            <a:tbl>
              <a:tblPr/>
              <a:tblGrid>
                <a:gridCol w="2592360"/>
                <a:gridCol w="2735280"/>
                <a:gridCol w="3024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и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 те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чего рассматривается движение небесных тел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позволяет объяснить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43280" y="5300640"/>
            <a:ext cx="397224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384 - 322 г. до н. э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439272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 ли он?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3" descr="249518943_tonnel"/>
          <p:cNvPicPr/>
          <p:nvPr/>
        </p:nvPicPr>
        <p:blipFill>
          <a:blip r:embed="rId1"/>
          <a:stretch/>
        </p:blipFill>
        <p:spPr>
          <a:xfrm>
            <a:off x="4859280" y="333360"/>
            <a:ext cx="3683160" cy="48243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280" y="5300640"/>
            <a:ext cx="4619880" cy="130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ЛИЛЕО ГАЛИЛ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564-164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galileo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4608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643280" y="338760"/>
            <a:ext cx="39657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а тело не действуют другие тела, то оно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ходится в поко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вижется прямолинейно и равномер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otnosit"/>
          <p:cNvPicPr/>
          <p:nvPr/>
        </p:nvPicPr>
        <p:blipFill>
          <a:blip r:embed="rId1"/>
          <a:stretch/>
        </p:blipFill>
        <p:spPr>
          <a:xfrm>
            <a:off x="358920" y="476280"/>
            <a:ext cx="878508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Line 5"/>
          <p:cNvSpPr/>
          <p:nvPr/>
        </p:nvSpPr>
        <p:spPr>
          <a:xfrm>
            <a:off x="4572000" y="620640"/>
            <a:ext cx="0" cy="597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68360" y="5877000"/>
            <a:ext cx="381636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932360" y="5877000"/>
            <a:ext cx="367200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И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7956360" cy="563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гла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шарик, упавш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, опыт убеждает нас, что это не так, что шарик падает у основания мачты!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алиле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5003640" y="2637000"/>
            <a:ext cx="3673800" cy="352872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5373360"/>
            <a:ext cx="3754440" cy="93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аа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ьют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643-1727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000045-1"/>
          <p:cNvPicPr/>
          <p:nvPr/>
        </p:nvPicPr>
        <p:blipFill>
          <a:blip r:embed="rId1"/>
          <a:stretch/>
        </p:blipFill>
        <p:spPr>
          <a:xfrm>
            <a:off x="539640" y="765000"/>
            <a:ext cx="4267440" cy="4608720"/>
          </a:xfrm>
          <a:prstGeom prst="rect">
            <a:avLst/>
          </a:prstGeom>
          <a:ln w="9360">
            <a:solidFill>
              <a:srgbClr val="321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Text Box 5"/>
          <p:cNvSpPr/>
          <p:nvPr/>
        </p:nvSpPr>
        <p:spPr>
          <a:xfrm>
            <a:off x="5508720" y="328464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ded1"/>
                </a:solidFill>
                <a:latin typeface="Arial"/>
              </a:rPr>
              <a:t>«Тело сохраняет свою скорость, если на него не действуют другие тела.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932360" y="476280"/>
            <a:ext cx="35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530280"/>
            <a:ext cx="5327640" cy="556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кон инерции (первый закон Ньютона, первый закон механики)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718240" y="105264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7:01:33Z</dcterms:created>
  <dc:creator>Titanik</dc:creator>
  <dc:description/>
  <dc:language>en-US</dc:language>
  <cp:lastModifiedBy>LEGION</cp:lastModifiedBy>
  <dcterms:modified xsi:type="dcterms:W3CDTF">2015-03-30T08:23:55Z</dcterms:modified>
  <cp:revision>47</cp:revision>
  <dc:subject/>
  <dc:title>Слайд 1</dc:title>
</cp:coreProperties>
</file>